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A7B-A3CA-416E-ABC7-E56F6218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A86-937F-4A5E-A9BC-215C3FAE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533-D21D-4DF9-A9AE-B8B339B6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6BB-804F-4CB1-A058-1F8D98BF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F48-4B8A-4DB5-8A99-25695178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2C7-D440-41AC-AA95-F8DA70FF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82B2-1C42-4F1B-9D89-BBDCF9F3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D766-7F06-473B-AD6A-8BBDC05B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D2EE-ABB2-45E5-A131-D3F19E3F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584-833B-4238-B326-A8B3FB2B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072D-CD41-4B1D-9AA7-124DA4C7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408-58E7-4C6C-A600-9DFA7F02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85A1-A05C-4898-A1C0-EB47A7649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nic Wa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thage vs. Rom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hree Round F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th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other” Mediterranean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unic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9 B.C to 146 B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ght for no other reason then Rome was jealous that Carthage even exi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hage was an economic power but not a military thr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o – used Carthage as a campaign h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 of like our government and terror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an excuse to attack Carth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pio Aemilianus destroyed the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mber sal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ato-the-elder-1-sized"/>
          <p:cNvPicPr/>
          <p:nvPr/>
        </p:nvPicPr>
        <p:blipFill>
          <a:blip r:embed="rId1"/>
          <a:stretch/>
        </p:blipFill>
        <p:spPr>
          <a:xfrm>
            <a:off x="380880" y="1447920"/>
            <a:ext cx="3659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big cities in one little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fall of Athens, there were two cities that rose to promin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e (we know about it alrea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hage (on the northern coast of Africa,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rome_carthage_218"/>
          <p:cNvPicPr/>
          <p:nvPr/>
        </p:nvPicPr>
        <p:blipFill>
          <a:blip r:embed="rId1"/>
          <a:stretch/>
        </p:blipFill>
        <p:spPr>
          <a:xfrm>
            <a:off x="0" y="1523880"/>
            <a:ext cx="56386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thage’s Personal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62 B.C., Carthage was significantly larger than Rome, about 250,000 people lived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d a powerful navy of about 500 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dibly ri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enaries fought for them!!! Did they have “Gravitas”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e, on the other h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mall n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ge empire could provide a very large army (500,000 soldiers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ed to be more loyal and therefore fought harder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d 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ed in figh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u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d a Carthaginian ship, and photocopied it 140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a gangplank to let soldiers do their dirt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nic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ed 2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thage’s fleet was destroyed in 241 B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e took over the rich island of 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nic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8 B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where Hannibal come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nibal – What should we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annibal-crossing-the-rhone"/>
          <p:cNvPicPr/>
          <p:nvPr/>
        </p:nvPicPr>
        <p:blipFill>
          <a:blip r:embed="rId1"/>
          <a:stretch/>
        </p:blipFill>
        <p:spPr>
          <a:xfrm>
            <a:off x="762120" y="1371600"/>
            <a:ext cx="70866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nibal in a nut sh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ded Rome from the North (came through the Al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e sent three armies to stop the invaders, but they were all cru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 new class of Rom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nibal did not attack Rome directly, rather he lived off the countryside, burning crops and pillaging for 13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e’s allies joined Hannibal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needed reinforc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LLS were too 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vastated plebian class (small landowners)-&gt; moved to the city and became known as the PROLETE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thage on the R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a Roman general named Scipio attacked Carth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nibal rushed back to Carthage, where he was defeated in the Battle of Zama in 202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at day on Scipio was known by the last name __ __ __ __ __ __ ___ ___ ___, symbolizing his victory in this contin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1:22:40Z</dcterms:created>
  <dc:creator>Darien Public Schools</dc:creator>
  <dc:description/>
  <dc:language>en-US</dc:language>
  <cp:lastModifiedBy>Local User</cp:lastModifiedBy>
  <dcterms:modified xsi:type="dcterms:W3CDTF">2013-10-11T18:21:16Z</dcterms:modified>
  <cp:revision>12</cp:revision>
  <dc:subject/>
  <dc:title>Carthage</dc:title>
</cp:coreProperties>
</file>